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63E-66A0-4AE2-961E-37CCF806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314-C36A-46C9-AB1C-CCD8A9E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377-4E47-4ABE-8435-408DF1DD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453-6A80-43D0-8C98-4F4D44E3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1C2-E900-4C19-8325-1BB8E1D9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54D-411A-40CF-99AF-863B1BC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53A-8B2D-4714-9494-5872245D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019-3C59-4695-B2EA-40429E79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E32-71E5-48E0-ADDA-CDF01208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19F-9EF1-45B1-9CC0-DF97BE1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D72-912F-4BC5-97A8-3C6AB7E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17B-8D46-4D8B-A342-B9172DA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CA3-3612-4A7D-9697-AE91C0D36CB1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7:13Z</dcterms:created>
  <dc:creator>Online2PDF.com</dc:creator>
  <dc:description/>
  <dc:language>en-US</dc:language>
  <cp:lastModifiedBy>Online2PDF.com</cp:lastModifiedBy>
  <dcterms:modified xsi:type="dcterms:W3CDTF">2024-01-18T07:07:1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