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A60-A588-4740-9860-EBDEB79B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1EF-9B7A-48FF-BD2A-33E6022A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245-2ED2-44EF-82BA-45A899F4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4AB-B9D3-425F-812E-E146B614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266-5E6F-45A1-AEF9-742296F5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4B5-69DD-4292-A237-FB2993CF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1B6-1408-4D7D-8C88-E7C11E70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724-1CE6-44DB-8296-2F53F89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30F-15F8-4BE1-936B-9596AA64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861-A981-4221-A56F-0C85A68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C97-3EBC-4848-A3E2-0B9C08A4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5F4-E05A-413F-88A9-4D097260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DB72-7B57-46B7-9764-589CBC8943DA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7:17Z</dcterms:created>
  <dc:creator>Online2PDF.com</dc:creator>
  <dc:description/>
  <dc:language>en-US</dc:language>
  <cp:lastModifiedBy>Online2PDF.com</cp:lastModifiedBy>
  <dcterms:modified xsi:type="dcterms:W3CDTF">2024-01-18T07:07:19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