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316-7E48-4C55-A640-E361E604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83C-5662-4CE2-A4CF-9E6BBB2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82A-0786-46A0-93F0-F8923DA6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E77-18E3-45A4-8021-1156E559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CCB-53EF-4B88-8788-0352CA6E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7F4-21EB-43DB-A2A8-E0F163E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0C1-ABDE-4D05-9429-AEE7837A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D54-310C-437C-A792-7827715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00D-B163-4EDF-AD24-A89C5AF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3A4-D366-4736-839F-0F2D3766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191-A45B-4F74-8274-3CA76275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F6-201A-41F7-AC00-93CDF11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33D-2AAB-4B1A-B641-7936CCF83001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8899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8:36Z</dcterms:created>
  <dc:creator>Online2PDF.com</dc:creator>
  <dc:description/>
  <dc:language>en-US</dc:language>
  <cp:lastModifiedBy>Online2PDF.com</cp:lastModifiedBy>
  <dcterms:modified xsi:type="dcterms:W3CDTF">2024-01-18T07:18:38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