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ED7-6ABF-4129-8417-C64F4CFB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E33-3B65-40E0-8387-BC6AD45A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92D-63E5-495F-8146-9F067C1E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ABE-8095-4BA2-BBD8-9D9243C4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420-8F41-480F-B3E2-ABD6F3FA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6DA-B5E9-46CA-B38A-B6E3E252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93A-4648-4D5B-A74D-48D5E10F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E2D-6A3A-4B7C-8470-D9CFD34C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EBA-C415-4CE7-8B4A-B18F087D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1FA-8B7D-46BC-846A-BBF96FDF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C07-FE43-4E51-A1D2-A4A86894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4A2-2276-4A01-AC16-39E3672D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8DF7-B5A9-4F18-9048-6BC4D91F1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522a copy.jpg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19280" y="1165320"/>
            <a:ext cx="77054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33320" y="1165320"/>
            <a:ext cx="76773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941400" y="1165320"/>
            <a:ext cx="7259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63640" y="1165320"/>
            <a:ext cx="74152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06400" y="1165320"/>
            <a:ext cx="75312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3:54:09Z</dcterms:created>
  <dc:creator>celester</dc:creator>
  <dc:description/>
  <dc:language>en-US</dc:language>
  <cp:lastModifiedBy>tony</cp:lastModifiedBy>
  <dcterms:modified xsi:type="dcterms:W3CDTF">2019-06-27T01:14:4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