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AFC1-BE34-4D97-A237-551A6FD90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F16D-5294-43D6-B8C5-FC631E4D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7D9D-3478-48F3-B346-118458375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C094-DDB7-41C6-BB49-A07A2A623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62C4-1309-4E3E-993E-DA78BB6C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1C69-54A6-4272-876D-E977E35B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CF55-A923-4B7A-A909-45C69144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5106-2A16-4CE2-8100-F46D44E7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CABF-9F89-4E7B-9C1D-8039ABE3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B4AF-3A74-49ED-9A26-D49A46DC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C7D1-E5DA-4FD8-8690-BE305B2B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9FE0-C632-4316-B2A6-8FFB090E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0B08-BF3F-474D-861D-477D8A0C7658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144000" cy="675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19:03Z</dcterms:created>
  <dc:creator>Online2PDF.com</dc:creator>
  <dc:description/>
  <dc:language>en-US</dc:language>
  <cp:lastModifiedBy>Online2PDF.com</cp:lastModifiedBy>
  <dcterms:modified xsi:type="dcterms:W3CDTF">2024-01-18T07:19:07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