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F37-2DB4-46A8-A188-6AE3A8CF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9CBD-54ED-4153-883E-6594EC4B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096-89AD-4418-BDF5-03E8772D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07D-FAD9-40D7-9FD5-5E627DAE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448-B8B3-4ED2-971C-43F5F9CE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2A4-8A85-4A47-9416-C06A6EE8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E2E-2F4E-446F-9F6A-9BE199EC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B8E-1739-4F52-91AA-B8B42831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F06-070C-4CEA-8526-97C68E77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4CB-657D-482E-ACB4-44351B26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612-D7AD-4E32-8ED9-AC98D06C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66F-1AFE-4D39-B84A-94AE8FB7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29845-5F85-4DB4-B5BF-0A26B6FCD682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6T05:52:57Z</dcterms:created>
  <dc:creator>Ing Ming Loh</dc:creator>
  <dc:description/>
  <dc:language>en-US</dc:language>
  <cp:lastModifiedBy>Ing Ming Loh</cp:lastModifiedBy>
  <dcterms:modified xsi:type="dcterms:W3CDTF">2018-10-16T05:53:49Z</dcterms:modified>
  <cp:revision>1</cp:revision>
  <dc:subject/>
  <dc:title>PowerPoint Presentation</dc:title>
</cp:coreProperties>
</file>