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75A-E12C-41C1-B4A6-8F2CB658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60D-26AB-4271-988E-1A933D8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D79-A3B6-4B91-85B9-E641241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20D-E25E-4C08-8347-722623AF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F2C-235F-4A41-A4EC-2CBEC9D1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E9C-4078-446A-9917-18042DC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35F-CCF9-41AE-B826-2E2645BC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2B1-425C-4026-B9AC-182FC8D7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AAD-6E08-4BFE-9BD8-16CE72E4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1AA-FB03-401C-919D-C83AEC8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8F0-925C-4DBA-B227-E6FDAC1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2C1-7A17-486A-B256-7E8B92E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7A7-ED1B-4BDF-96C5-18CB587BF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8"/>
          <p:cNvPicPr/>
          <p:nvPr/>
        </p:nvPicPr>
        <p:blipFill>
          <a:blip r:embed="rId1"/>
          <a:stretch/>
        </p:blipFill>
        <p:spPr>
          <a:xfrm>
            <a:off x="3240" y="-225360"/>
            <a:ext cx="914400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j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j10"/>
          <p:cNvPicPr/>
          <p:nvPr/>
        </p:nvPicPr>
        <p:blipFill>
          <a:blip r:embed="rId2"/>
          <a:stretch/>
        </p:blipFill>
        <p:spPr>
          <a:xfrm>
            <a:off x="-324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j11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36:21Z</dcterms:created>
  <dc:creator>DEll</dc:creator>
  <dc:description/>
  <dc:language>en-US</dc:language>
  <cp:lastModifiedBy>DEll</cp:lastModifiedBy>
  <dcterms:modified xsi:type="dcterms:W3CDTF">2011-05-26T07:40:06Z</dcterms:modified>
  <cp:revision>1</cp:revision>
  <dc:subject/>
  <dc:title>PowerPoint Presentation</dc:title>
</cp:coreProperties>
</file>