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03F-0F6D-4EA8-B960-9632C245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5A3-1546-4BD8-AFE4-245113A0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8642-BDEC-4BE3-A4D9-DA070FFB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1848-BC00-45EF-9D59-23EBD908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A9BA-4ADB-433F-A872-85407A91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B0B-1439-4164-8E67-428780A2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AF9B-7782-4612-BC2C-F7276328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5D5-BFE4-4268-9381-B4C1235D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DFF-2508-41EC-90C9-C0BF4EF4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790-A253-4936-9103-BF6A5A30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5CC-A0F8-4503-BFE7-0F8B6CA6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26B-754A-45E8-9A78-24220516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49C6-3C3E-4346-97E6-C04CBE672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j5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j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j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37:46Z</dcterms:created>
  <dc:creator>DEll</dc:creator>
  <dc:description/>
  <dc:language>en-US</dc:language>
  <cp:lastModifiedBy>DEll</cp:lastModifiedBy>
  <dcterms:modified xsi:type="dcterms:W3CDTF">2011-05-26T07:39:55Z</dcterms:modified>
  <cp:revision>1</cp:revision>
  <dc:subject/>
  <dc:title>PowerPoint Presentation</dc:title>
</cp:coreProperties>
</file>