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5EB-FA7F-4010-8ED6-3338E642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BF5-B9B7-4B02-8416-C223016E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A0F-EBE7-4532-838A-2E45FA6A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542-B16F-4BDE-876B-BB97A0C1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756-29C3-4E3D-97B9-18EBE04F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D5A-1E1E-4B3C-B34D-F21DD73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60E-5AC4-4575-B9AC-DCBA75D3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F76-07D2-4309-A9FB-EF53683D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A8D-CF11-4F5B-817F-398CF0CF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447-733C-426D-8C6E-19F05ED7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92D-B796-4409-A1AB-D326032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442-5AD9-4A57-B831-D065B024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9DA-3120-43DE-891A-EA897CBAC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j2"/>
          <p:cNvPicPr/>
          <p:nvPr/>
        </p:nvPicPr>
        <p:blipFill>
          <a:blip r:embed="rId2"/>
          <a:stretch/>
        </p:blipFill>
        <p:spPr>
          <a:xfrm>
            <a:off x="0" y="-18252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j3"/>
          <p:cNvPicPr/>
          <p:nvPr/>
        </p:nvPicPr>
        <p:blipFill>
          <a:blip r:embed="rId2"/>
          <a:stretch/>
        </p:blipFill>
        <p:spPr>
          <a:xfrm>
            <a:off x="-20520" y="9360"/>
            <a:ext cx="91645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j4"/>
          <p:cNvPicPr/>
          <p:nvPr/>
        </p:nvPicPr>
        <p:blipFill>
          <a:blip r:embed="rId2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38:44Z</dcterms:created>
  <dc:creator>DEll</dc:creator>
  <dc:description/>
  <dc:language>en-US</dc:language>
  <cp:lastModifiedBy>DEll</cp:lastModifiedBy>
  <dcterms:modified xsi:type="dcterms:W3CDTF">2011-05-26T07:39:39Z</dcterms:modified>
  <cp:revision>1</cp:revision>
  <dc:subject/>
  <dc:title>PowerPoint Presentation</dc:title>
</cp:coreProperties>
</file>