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8A2-340B-4A15-8DEB-FDDB6C8F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EFB-C36E-4558-9AAD-28F61CCE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31D-1AD0-40B5-B7B5-7AFF78E2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705-8E92-4CC9-97CB-037DDAA5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6B2-D775-4EF4-A944-99EDF630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A17-BE45-4A52-9FE9-A257579D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3E3-A1BC-4957-8713-192A9F9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312-8D52-495C-BB53-9BAA590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7A9-E408-43D2-A634-48A02E2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3D4-2E39-4B98-B124-D9D298A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66A-522A-4200-9406-9BC2F9F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0BD-7293-4824-AE17-3C635F5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00B0-34FA-4944-A62F-D4C68658254E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14Z</dcterms:created>
  <dc:creator>Online2PDF.com</dc:creator>
  <dc:description/>
  <dc:language>en-US</dc:language>
  <cp:lastModifiedBy>Online2PDF.com</cp:lastModifiedBy>
  <dcterms:modified xsi:type="dcterms:W3CDTF">2024-01-18T07:19:16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