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2E373-436F-4C99-9D40-AED36A3E3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2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FA9EE-5E5C-4F16-A32F-7329AE117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2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2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CC816-9C73-4406-9B6A-506A3BD61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77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77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2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2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2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7F927-632E-45AD-BD62-2ECA9F270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77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F3307-20C7-4201-87FE-DE9C9083C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0DA70-C656-43AC-9521-A8B96CD3C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77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90CDD-F09E-4F00-B511-D4660DA26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0B6D1-106C-4058-91A2-479CECCC6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0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A8FC0-2538-42A0-BB0A-80B3AC4CB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77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2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68698-8033-4059-8366-DFF5DAE91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2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C528C-539B-4556-8E13-8714E6B42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2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BAE37-E038-4346-9352-B1CCCAE67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77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371600"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18288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08240" y="6378120"/>
            <a:ext cx="2927520" cy="3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dt" idx="2"/>
          </p:nvPr>
        </p:nvSpPr>
        <p:spPr>
          <a:xfrm>
            <a:off x="456840" y="6378120"/>
            <a:ext cx="2103480" cy="3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82960" y="6378120"/>
            <a:ext cx="2103480" cy="3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B101E-A368-431B-AC3D-B907341E3DB0}" type="slidenum">
              <a:rPr b="0" lang="de-DE" sz="18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object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object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bject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object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object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4-01-18T08:19:20Z</dcterms:created>
  <dc:creator>Online2PDF.com</dc:creator>
  <dc:description/>
  <dc:language>en-US</dc:language>
  <cp:lastModifiedBy>Online2PDF.com</cp:lastModifiedBy>
  <dcterms:modified xsi:type="dcterms:W3CDTF">2024-01-18T07:19:22Z</dcterms:modified>
  <cp:revision>1</cp:revision>
  <dc:subject/>
  <dc:title>PowerPoint-Prä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reated">
    <vt:filetime>2024-01-18T00:00:00Z</vt:filetime>
  </property>
  <property fmtid="{D5CDD505-2E9C-101B-9397-08002B2CF9AE}" pid="3" name="LastSaved">
    <vt:filetime>2024-01-18T00:00:00Z</vt:filetime>
  </property>
</Properties>
</file>