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CEC-52D7-478B-B4CE-59C50528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142-AC73-45CA-AF46-E5EDB763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ACF-CCF6-4316-B6FF-578EBDFC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649-2FEA-4ADA-8A08-848FDAA7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7E2-4A30-4E2A-9B4E-FE9CF8C9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1C3-D782-4BF8-923B-0B832C16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CC9-A181-44ED-9265-69495863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385-DEC0-4694-AACD-67E25D95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A58-D9A7-4A6C-8AF3-3E331DBD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587-6926-494F-AE91-F42EA3A9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185-3634-463D-A865-7EC393E5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C9C-3EE6-4730-AF1F-3522CB71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8A2B-586A-4661-8FC9-8B3A8B2E0D06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19:26Z</dcterms:created>
  <dc:creator>Online2PDF.com</dc:creator>
  <dc:description/>
  <dc:language>en-US</dc:language>
  <cp:lastModifiedBy>Online2PDF.com</cp:lastModifiedBy>
  <dcterms:modified xsi:type="dcterms:W3CDTF">2024-01-18T07:19:29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