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E22-F970-4972-A37C-54B39D7E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184-4C08-438D-893D-987E06AA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4F0D-A549-4664-99CF-3DDC45CB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2897-4DDB-4BE9-B0E9-24BB54B5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2BB-C131-4E90-9B38-06CE1EC0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331-FA72-447A-8781-C9DF6795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1FC4-F702-4DA9-8543-A4190D13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2A7-FC2B-4027-8357-262DA933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B91-0380-453C-87F5-6BC45316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1CA-D2C2-4B8F-AF67-EE4B05A6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0D1-7C5B-4E01-BEAD-7ECC22A1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411-83A9-40E6-9D74-446CA362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E595-4548-429C-9B65-9BEECAEE5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a6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a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a8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9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39:51Z</dcterms:created>
  <dc:creator>DEll</dc:creator>
  <dc:description/>
  <dc:language>en-US</dc:language>
  <cp:lastModifiedBy>DEll</cp:lastModifiedBy>
  <dcterms:modified xsi:type="dcterms:W3CDTF">2011-05-26T07:39:27Z</dcterms:modified>
  <cp:revision>1</cp:revision>
  <dc:subject/>
  <dc:title>PowerPoint Presentation</dc:title>
</cp:coreProperties>
</file>