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5B2-D95C-4876-A140-80A85984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31A-3FC4-4146-A3CA-638616A0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E5A-520E-4408-B8DF-DB7847E7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3CC-353B-47C0-9B4F-6B5383AC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8ED-D771-4A9A-8BE0-C9179F1F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944-62F5-4A3F-983E-D42513DA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AF8-4318-4B41-B805-900466F0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567-F5EA-4F33-9593-D4172309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974-02FF-4EA1-868C-C2DE1F05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8F2-390B-4EA3-B7E6-84F942E7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2AC-B884-4C91-BBCF-6BA5799E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F43-A944-4543-9BF5-18574D2D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F56B-1F45-493E-8C8E-4060EAE7782B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19:33Z</dcterms:created>
  <dc:creator>Online2PDF.com</dc:creator>
  <dc:description/>
  <dc:language>en-US</dc:language>
  <cp:lastModifiedBy>Online2PDF.com</cp:lastModifiedBy>
  <dcterms:modified xsi:type="dcterms:W3CDTF">2024-01-18T07:19:36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