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4B7-D1C4-4A6F-B9F7-E6903CA9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BE6-077E-48D6-A919-195E5B4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E9E-7FFC-46D1-8E33-9CA03A2D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777-65AE-4B65-9144-CD75A061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1ED-F334-40D0-B969-7417128E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9AE-6B44-43CF-B0D3-C367C4AD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BB8-51EF-453E-B8C3-3886D2D9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39B-FA48-4647-8580-D865773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289-0F6A-473E-ADB1-45D5188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36A-4F86-4891-BF91-04DDDD8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DCC-9110-46FF-B434-A8649BA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CA2-848B-4018-B2A1-D3F9AFF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1AF3-B520-421C-B73D-780D3F1A62DA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43Z</dcterms:created>
  <dc:creator>Online2PDF.com</dc:creator>
  <dc:description/>
  <dc:language>en-US</dc:language>
  <cp:lastModifiedBy>Online2PDF.com</cp:lastModifiedBy>
  <dcterms:modified xsi:type="dcterms:W3CDTF">2024-01-18T07:19:4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