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77B-84FB-4A3E-BCD6-05CDD59E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CFB-BCA1-4C7C-A618-6E44565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BD9-FEB3-40CC-B52A-24B9AFB1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81D-9862-4B1E-B2B3-FBCF7C46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C02-59F2-4FDA-9578-0B17A93C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D1A-DCCE-440D-9D0A-C7D94E5F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2AC-36AF-4375-92E0-F98A0CA4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2E6-19F8-4EF5-AA76-52452A6E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615-5766-4D07-AB06-BC378E2B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D66-113F-4ECD-B545-00E29B88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F05-DFF4-4834-828C-CCE615CC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EB4-CDFA-4EFB-883B-F8FCED5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E4F3-C515-488F-9B7C-53D8F92CE8B7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9:50Z</dcterms:created>
  <dc:creator>Online2PDF.com</dc:creator>
  <dc:description/>
  <dc:language>en-US</dc:language>
  <cp:lastModifiedBy>Online2PDF.com</cp:lastModifiedBy>
  <dcterms:modified xsi:type="dcterms:W3CDTF">2024-01-18T07:19:52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