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9CC6-CC26-4106-8D25-46CED020E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0401-72D2-4689-96E3-BB00D09A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E8AB0-E3AD-440B-A46B-E8BEFC023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9C02C-47A0-4C24-8B86-827625585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4A6E-BF89-4E28-9552-1EEF4DB88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EACF-847A-454E-AF21-7594A339E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B820-F840-4FFD-B385-7355B5F16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AE4BF-6E49-417D-86E9-3E84ED2E8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A2CC9-EA85-4C35-B8CE-8A8AAC853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928-3679-43E8-83FF-C5852798A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9E3DB-2303-4873-A2C7-59F20182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4830-2D5D-4DB9-845B-86B357E28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7041F-F50F-4488-806C-50C1C2F008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2" descr="s01"/>
          <p:cNvPicPr/>
          <p:nvPr/>
        </p:nvPicPr>
        <p:blipFill>
          <a:blip r:embed="rId1"/>
          <a:stretch/>
        </p:blipFill>
        <p:spPr>
          <a:xfrm>
            <a:off x="23760" y="-3240"/>
            <a:ext cx="9120240" cy="686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s02"/>
          <p:cNvPicPr/>
          <p:nvPr/>
        </p:nvPicPr>
        <p:blipFill>
          <a:blip r:embed="rId2"/>
          <a:stretch/>
        </p:blipFill>
        <p:spPr>
          <a:xfrm>
            <a:off x="-19080" y="0"/>
            <a:ext cx="916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" descr="g1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6T02:40:59Z</dcterms:created>
  <dc:creator>DEll</dc:creator>
  <dc:description/>
  <dc:language>en-US</dc:language>
  <cp:lastModifiedBy>DEll</cp:lastModifiedBy>
  <dcterms:modified xsi:type="dcterms:W3CDTF">2011-05-26T07:39:18Z</dcterms:modified>
  <cp:revision>1</cp:revision>
  <dc:subject/>
  <dc:title>PowerPoint Presentation</dc:title>
</cp:coreProperties>
</file>