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6F2B-955D-4B67-B98C-2190392C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596F-FE02-4DDD-9126-D74634AA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B65B-5BF4-45F4-A434-7890D84D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8C42-ECC3-49C9-B34E-BB5AB7BE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D754-7C6C-4813-A958-2D8C5A8F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811E-C8DD-4C12-88E3-7D2DB3FF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6E29-27DC-4D61-BC0C-1030E748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A23F-D775-4AA9-ADE3-7BBD63C9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DA02-8616-4623-BF4A-4CB45AF0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D8C3-3009-42EB-B6CE-DDFF87CB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C5DD-5DE4-4957-8A16-0C00E718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B68E-E2FA-40ED-A380-E18BE142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CC7F-872F-4862-B51C-40DF1E883D40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8962920" cy="675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19:55Z</dcterms:created>
  <dc:creator>Online2PDF.com</dc:creator>
  <dc:description/>
  <dc:language>en-US</dc:language>
  <cp:lastModifiedBy>Online2PDF.com</cp:lastModifiedBy>
  <dcterms:modified xsi:type="dcterms:W3CDTF">2024-01-18T07:19:57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