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A222D-9B12-4129-8937-52C6E5AD36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12BD8-E051-4930-8325-FC4962C8A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44463-2EC2-49BE-91DA-A4AD4FE67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77CF0-853D-4BF8-9E4F-434D2F0D1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535C-972B-4E18-85B0-AAC2CCC73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4E64-EC95-4EDB-9C1C-3B4E2FE8E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71A6-C57D-4426-95D5-5A03FF6E9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9AF24-3B03-40EA-8463-7B8DA95F4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9CBA-4AAE-40AA-A2FA-3486E7378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9B4DC-0B13-45CB-8094-F0B42557F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586D-B802-45F7-B748-36B56F397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470C8-3BC2-4CCF-88F9-8ABB0085A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FEDA1-4FDB-4369-86C8-D8972E1EEBA1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19:59Z</dcterms:created>
  <dc:creator>Online2PDF.com</dc:creator>
  <dc:description/>
  <dc:language>en-US</dc:language>
  <cp:lastModifiedBy>Online2PDF.com</cp:lastModifiedBy>
  <dcterms:modified xsi:type="dcterms:W3CDTF">2024-01-18T07:20:01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