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D1E-03F0-47E5-8FB9-D49C5B46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6D4A-646B-4319-A21E-F9BF1959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ED03-E1CE-4D33-A188-F2D95392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A26-4559-48FB-9BF0-93A49782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CE9-7100-4747-B31D-D2DC441A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CBC-5623-4206-A08E-F62634A8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05C-88AD-411F-9674-FCF849EF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AF5-6AF2-4D26-A2F4-D9F67238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BC9-ADBE-41E8-AC82-1AD67EF7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3C5-0B43-4A15-9BB7-E79C16F6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7BD-2BB3-4ED8-9F42-15E0F558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87E-7504-41A9-92FE-30D0DDBD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5E8C0-8012-4397-B277-755517524A7F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7T02:59:36Z</dcterms:created>
  <dc:creator>Ing Ming Loh</dc:creator>
  <dc:description/>
  <dc:language>en-US</dc:language>
  <cp:lastModifiedBy>Ing Ming Loh</cp:lastModifiedBy>
  <dcterms:modified xsi:type="dcterms:W3CDTF">2018-10-17T03:00:15Z</dcterms:modified>
  <cp:revision>1</cp:revision>
  <dc:subject/>
  <dc:title>PowerPoint Presentation</dc:title>
</cp:coreProperties>
</file>