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216-FE23-4C8B-84F4-7962582F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983-BC7C-40C7-A3D9-4C3F7360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B71-BA3C-4D1A-BC35-9F6C52D3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C1F-6580-4227-B2E3-370C8705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56B-34C6-4511-A7AB-F876F285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04A-9915-4368-9FEB-4A93D1D5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930-1E32-4D50-9CCF-B9625F53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CD1-9367-4323-AC10-2BA808A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7DA-07D0-46F3-8101-BB2285C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832-09EC-4712-85EA-2DF662DB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57C-5EF1-4E2E-89E2-83CEE97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234-8DFA-4975-ACE4-77D7D8A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1C9-2CD0-46A3-89ED-A1DD92AFC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04"/>
          <p:cNvPicPr/>
          <p:nvPr/>
        </p:nvPicPr>
        <p:blipFill>
          <a:blip r:embed="rId1"/>
          <a:stretch/>
        </p:blipFill>
        <p:spPr>
          <a:xfrm>
            <a:off x="33480" y="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s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41:56Z</dcterms:created>
  <dc:creator>DEll</dc:creator>
  <dc:description/>
  <dc:language>en-US</dc:language>
  <cp:lastModifiedBy>DEll</cp:lastModifiedBy>
  <dcterms:modified xsi:type="dcterms:W3CDTF">2011-05-26T07:38:59Z</dcterms:modified>
  <cp:revision>1</cp:revision>
  <dc:subject/>
  <dc:title>PowerPoint Presentation</dc:title>
</cp:coreProperties>
</file>