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471-C2EF-4198-BA18-3A43E7EB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B9E-2D57-4A06-82F5-F726641C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DB1-B704-44BD-B1AF-1BCBF73C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8D2A-6A19-4133-B8E8-9EEA2CE0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C48-FD3D-42D5-862F-849F5A28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0BA-8878-4ECD-AB79-7FC59D17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076-DABA-4A41-B87D-3735AF35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6BF1-AE2F-462F-AA6E-7771605B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7BA-265C-410D-A607-30766C4F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1B7-6177-49D3-91D1-6F06DDAC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F6E-F5CD-456C-BF9A-4753F39B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D0E-E7C9-44ED-8A88-C0126A7C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969E-95F1-4799-8BEB-19E003331CD2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0:04Z</dcterms:created>
  <dc:creator>Online2PDF.com</dc:creator>
  <dc:description/>
  <dc:language>en-US</dc:language>
  <cp:lastModifiedBy>Online2PDF.com</cp:lastModifiedBy>
  <dcterms:modified xsi:type="dcterms:W3CDTF">2024-01-18T07:20:05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