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FD2-7350-4BE7-8176-3915A92A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F4C-B208-4B43-BB23-FEF4D088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A08-31C6-4835-B745-220E01B7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A25-A863-4455-972C-26F94DDA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4C2-9BAE-4C30-B7D5-554E145A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01D-BBB7-4897-B108-E794F885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A21-4596-4A6C-8931-FE6ACDFA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C19-ABFB-45EA-9F96-05660B50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8C5-029D-4F40-9C93-7F21185A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9FA-8F89-40EE-9C44-0DF5F5AB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7D3-C461-466F-A045-F3B98CC8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A7E-42E1-406D-8425-86FBA705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BDBD-FF0E-4C9C-ACA6-3B3A1464E823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070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0:08Z</dcterms:created>
  <dc:creator>Online2PDF.com</dc:creator>
  <dc:description/>
  <dc:language>en-US</dc:language>
  <cp:lastModifiedBy>Online2PDF.com</cp:lastModifiedBy>
  <dcterms:modified xsi:type="dcterms:W3CDTF">2024-01-18T07:20:09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