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A90-4BB7-42A2-83BA-08F6D4A5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AFA-FF1A-412E-B3ED-6102215A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98C-25CD-43B3-9080-E1F98B84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C37-AA6F-4DDC-A440-518E579F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F98-EDAB-456C-9243-E9AB2AFE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EEA-1190-44B2-ADC4-F2748850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BD6-239B-4696-946C-54ADF6F1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2EE-21AF-44F0-94AA-3182F45A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80F-B56E-4F35-915F-BEEEECF6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200-134B-4B00-AFA4-25CBA0D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595-D9A5-44B7-822F-F1FE030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C56-7933-4E02-AEBC-90FA8AB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E70F-591A-4976-92D2-C7598D0CF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i2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i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42:49Z</dcterms:created>
  <dc:creator>DEll</dc:creator>
  <dc:description/>
  <dc:language>en-US</dc:language>
  <cp:lastModifiedBy>DEll</cp:lastModifiedBy>
  <dcterms:modified xsi:type="dcterms:W3CDTF">2011-05-26T07:38:45Z</dcterms:modified>
  <cp:revision>1</cp:revision>
  <dc:subject/>
  <dc:title>PowerPoint Presentation</dc:title>
</cp:coreProperties>
</file>