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DAB-E981-43E2-84E8-A040188C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C04-D155-4026-A8B6-2DE6346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93A-94B5-4D71-9A7C-EBD0A2BD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D99-1970-4896-B6E8-30A29976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718-46AE-4601-9E2C-C2BD5ED0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712-69FF-4927-A18F-C4769428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B7D-AE16-4BB2-B8E6-1E00A0FF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CC1-13EB-4F25-9A03-A0E2C966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E2C-364C-46ED-8C96-35079B3C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B71-C1D7-4E05-BA8A-6A87698B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B5F-6F34-4E8C-819C-E0F2C03C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924-D7C9-4642-861D-795914DA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7F47-0B95-4A78-A9BA-13D994794D5C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0:12Z</dcterms:created>
  <dc:creator>Online2PDF.com</dc:creator>
  <dc:description/>
  <dc:language>en-US</dc:language>
  <cp:lastModifiedBy>Online2PDF.com</cp:lastModifiedBy>
  <dcterms:modified xsi:type="dcterms:W3CDTF">2024-01-18T07:20:14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