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B87C-E952-4A58-8884-E2CD3365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C128-7D24-4FBE-B127-E3F6FA00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7FA0-E568-4C37-8BFB-8F78A1AC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49AB-E231-4300-AC21-1217EFFD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02E6-44AA-4219-A5BF-E0FF553B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CE0C-EEE2-4334-A2F2-E2BB4E4C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0AD3-C2EF-4B1F-897F-20B630EE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CA09-0341-434C-BE8D-EBF4128A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E726-D47F-41D9-9B9F-D210A638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686-C860-4CB9-BA13-BE8F4E92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BA81-4371-4D5B-8F6E-763BCE6E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CEA0-AB0A-4E3F-91A4-4AF569FC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E885-0108-4204-AE86-E86324DC4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s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s4"/>
          <p:cNvPicPr/>
          <p:nvPr/>
        </p:nvPicPr>
        <p:blipFill>
          <a:blip r:embed="rId2"/>
          <a:stretch/>
        </p:blipFill>
        <p:spPr>
          <a:xfrm>
            <a:off x="23760" y="0"/>
            <a:ext cx="912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2:44:03Z</dcterms:created>
  <dc:creator>DEll</dc:creator>
  <dc:description/>
  <dc:language>en-US</dc:language>
  <cp:lastModifiedBy>DEll</cp:lastModifiedBy>
  <dcterms:modified xsi:type="dcterms:W3CDTF">2011-05-26T07:38:34Z</dcterms:modified>
  <cp:revision>1</cp:revision>
  <dc:subject/>
  <dc:title>PowerPoint Presentation</dc:title>
</cp:coreProperties>
</file>