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63E-E5B5-4E87-84C3-AD2ACFFA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2D2-0859-48CF-A203-4254D499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292-D6AE-4043-90A4-3E6AA11D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8AA-DF66-4014-A6A3-942E409E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CB9-4DD7-49AE-9383-C1416572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931-2B59-49E8-BC80-F29ED8E8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79C-7FAE-4923-B807-C3A698AD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743-4832-44B2-9316-76DE17C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13B-0FB8-4739-A472-0BE2A0F1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C03-277D-46E8-9544-3508799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C09-5531-4B75-8290-5CBAB44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28E-17B3-4A6C-96D8-B4B84D5B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A3FD-5DE9-47EA-9C2B-C9E0CDDD5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m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m8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m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5:19Z</dcterms:created>
  <dc:creator>DEll</dc:creator>
  <dc:description/>
  <dc:language>en-US</dc:language>
  <cp:lastModifiedBy>DEll</cp:lastModifiedBy>
  <dcterms:modified xsi:type="dcterms:W3CDTF">2011-05-26T07:38:06Z</dcterms:modified>
  <cp:revision>1</cp:revision>
  <dc:subject/>
  <dc:title>PowerPoint Presentation</dc:title>
</cp:coreProperties>
</file>