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8A9-02FF-4B0A-9D14-C8A16EF2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4ED-D341-4F97-8B93-18256112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D37-85DD-48F1-94AD-FD7763E1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734-F2E9-400D-9DAD-91229E6B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69B-1431-4F3E-A31A-A872C835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D01-1144-440D-90F3-0AA39F1D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51F-426A-47C6-8120-128E861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09B-0238-4080-9067-E28B2ACC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C82-45B8-4747-A244-0D1E7978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91A-34C3-4E2B-B33E-2F83629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084-6D2D-4F7F-BF49-681CB80D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9B5-8413-45DA-9215-510EF348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2B9A-D0E0-4BC3-AF22-AD93F25A3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06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s0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s08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09"/>
          <p:cNvPicPr/>
          <p:nvPr/>
        </p:nvPicPr>
        <p:blipFill>
          <a:blip r:embed="rId2"/>
          <a:stretch/>
        </p:blipFill>
        <p:spPr>
          <a:xfrm>
            <a:off x="-27000" y="-19080"/>
            <a:ext cx="9171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49:55Z</dcterms:created>
  <dc:creator>DEll</dc:creator>
  <dc:description/>
  <dc:language>en-US</dc:language>
  <cp:lastModifiedBy>DEll</cp:lastModifiedBy>
  <dcterms:modified xsi:type="dcterms:W3CDTF">2011-05-26T07:37:18Z</dcterms:modified>
  <cp:revision>1</cp:revision>
  <dc:subject/>
  <dc:title>PowerPoint Presentation</dc:title>
</cp:coreProperties>
</file>