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71B9A-22EF-4EB2-BB37-C228584C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D4F62-061E-4278-8A30-881B4D19A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37AAB-3EB5-44D7-8608-B36CAE0ED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BA45B-B706-4EB1-B429-54A3C3524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9D99-DA71-4838-B5E3-258AC4EDD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9F20-6FCB-4927-9F6C-617F683B5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6CB-425B-4F8E-AAC5-EA571EAC9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55B7-DAA0-4578-A4C9-DC6D403AE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DAE6-9DDF-4BE5-B65D-77D9CE271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F61D1-F58E-498B-B303-11F98F31C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4AB21-22BD-4047-902D-BE5F43917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7900-460D-4E00-8E8C-98C83744E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3434B-C448-405C-8E65-A792C290D3D7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20:16Z</dcterms:created>
  <dc:creator>Online2PDF.com</dc:creator>
  <dc:description/>
  <dc:language>en-US</dc:language>
  <cp:lastModifiedBy>Online2PDF.com</cp:lastModifiedBy>
  <dcterms:modified xsi:type="dcterms:W3CDTF">2024-01-18T07:20:17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