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6A8-7BA9-4777-8986-C9C569FD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09B-9BD4-4162-9B9C-288A7CDC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E27-F0AE-4E02-86C9-4064DCDB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992-2B7B-40C0-B294-D6EFF3EE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FD8-4732-46FE-87DE-C7372EF9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604-33CF-4BC7-A9E1-D6BFAB9F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B8B-3517-43A9-B6A9-6E5F7C0D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53C-4443-4508-BA75-EC60A7C6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7EB-8437-4722-9684-653712F8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90D-94A1-4668-93DC-630B3B09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38C-7673-4950-B2C3-AA8934D1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2B8-0E88-46B9-AFC9-67C3C5A0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9BEE-103E-4DC6-A0DC-E009CEEE2EE1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063000" cy="676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0:19Z</dcterms:created>
  <dc:creator>Online2PDF.com</dc:creator>
  <dc:description/>
  <dc:language>en-US</dc:language>
  <cp:lastModifiedBy>Online2PDF.com</cp:lastModifiedBy>
  <dcterms:modified xsi:type="dcterms:W3CDTF">2024-01-18T07:20:21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