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C09E-F412-42C2-86B3-1C07C33AA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BB3C-1D54-4F23-A2EA-ADF24C7D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3F41-19E1-4374-AC77-4350FA3D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5067-F611-4713-8F2D-5B77D36D2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7017-28B0-43E8-B61A-C787C844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D390-CE83-4E7E-8592-90477134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9E5D-BC83-484B-94B7-BA96865C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4013-828E-4411-9033-E838EB63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FAE0-0C53-4D91-BA1F-DF75391C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4BE5-5099-4FBD-A684-C6103EAA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1B25-38BA-4789-8A97-DC82ECFC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D67C-AF9B-48C7-9CE8-E797D8B0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0ADB-B79F-4AC1-980F-B09D8547A1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a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a3"/>
          <p:cNvPicPr/>
          <p:nvPr/>
        </p:nvPicPr>
        <p:blipFill>
          <a:blip r:embed="rId2"/>
          <a:stretch/>
        </p:blipFill>
        <p:spPr>
          <a:xfrm>
            <a:off x="-15840" y="0"/>
            <a:ext cx="915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a4"/>
          <p:cNvPicPr/>
          <p:nvPr/>
        </p:nvPicPr>
        <p:blipFill>
          <a:blip r:embed="rId2"/>
          <a:stretch/>
        </p:blipFill>
        <p:spPr>
          <a:xfrm>
            <a:off x="-20520" y="-23760"/>
            <a:ext cx="916452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02:51:57Z</dcterms:created>
  <dc:creator>DEll</dc:creator>
  <dc:description/>
  <dc:language>en-US</dc:language>
  <cp:lastModifiedBy>DEll</cp:lastModifiedBy>
  <dcterms:modified xsi:type="dcterms:W3CDTF">2011-05-26T07:37:06Z</dcterms:modified>
  <cp:revision>1</cp:revision>
  <dc:subject/>
  <dc:title>PowerPoint Presentation</dc:title>
</cp:coreProperties>
</file>