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E72-2853-4EA4-AF6A-9DEFE1FE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82A-B51E-4E25-8EF1-CFD12E71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7AE-E291-464F-AF7D-FE28F0A6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F26-BBF4-4EAB-9F43-BFDF11AB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9FA-C903-4932-8539-54544CC4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A81-27F7-4225-A541-5E48F339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3AE-5D73-4834-ABEA-687C7AF5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4FE-0B8D-4CBE-8BA9-56301873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9C8-B857-4742-B2B5-52630F83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66D-01B1-4E91-BF88-1D27EC71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968-57FA-4055-9A38-3769CD72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D2D-CC0C-4A89-BF41-7DCDC69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E946-4FD9-4BAE-A3E3-FE644316F814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053640" cy="6777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0:24Z</dcterms:created>
  <dc:creator>Online2PDF.com</dc:creator>
  <dc:description/>
  <dc:language>en-US</dc:language>
  <cp:lastModifiedBy>Online2PDF.com</cp:lastModifiedBy>
  <dcterms:modified xsi:type="dcterms:W3CDTF">2024-01-18T07:20:25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