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CB1C-35A9-4367-AE5A-A3A62E29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C4FF-6001-4D2F-94C0-BAA2DC5E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BDA8-4B59-4FB4-B69C-3CDE0327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D370-CE08-4BC8-A262-19C133ADE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9D7A-1A80-4331-8222-8487D035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64F5-06DA-418D-8BE1-73E6E4AF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EEDD-04FD-4F14-839E-02371929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B916-B31A-4784-913F-AEA64C79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793A-8FF2-430E-8CDD-D400CC19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C88-ADDE-474F-BB00-BD2D79EE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A98D-D1F4-4C5B-BA38-F2920173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483-A51F-438C-8679-70E03B52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E0D2-B2A1-489F-904F-36149C4377B9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0:28Z</dcterms:created>
  <dc:creator>Online2PDF.com</dc:creator>
  <dc:description/>
  <dc:language>en-US</dc:language>
  <cp:lastModifiedBy>Online2PDF.com</cp:lastModifiedBy>
  <dcterms:modified xsi:type="dcterms:W3CDTF">2024-01-18T07:20:30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