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D1A-D429-49AB-91D2-AC195203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651-D225-4313-B2FD-CD59C21B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E76-5B54-4286-80FE-9CC5E333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769-487B-4B23-A972-4B897662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48E-9CD4-4544-B46A-212419BC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08D-FEA4-470E-A374-E6ECBCB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C36-F3F4-4285-9D10-214CD67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ACA-5125-4DA8-BAA0-F2FE26C6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FF7-FEC7-49F8-885A-1D39DA35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FDA-B8B0-4E86-ADAF-BA1DEE3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981-9893-4E95-B002-F3D11EB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275-C75A-4D28-A82A-4FE5B2DD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42C-B006-435F-B73F-CA00D50BE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76276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58:32Z</dcterms:modified>
  <cp:revision>41</cp:revision>
  <dc:subject/>
  <dc:title>Slide 1</dc:title>
</cp:coreProperties>
</file>