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822-D79A-4429-BDB8-6B367E28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7D2-D142-4C43-B4D4-107F44AE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189-49BC-4E13-93F9-30726BC3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3E6-FD21-4B19-BC56-460885C2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BB6-BBD2-4CFF-8F01-85D34260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6AF-CAE1-415E-9721-2CB49FA7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A51-C437-4535-9EAF-16FFBA27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B35-ECFA-4ACF-B7B0-8BA0AFFA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D57-A989-4B66-8239-39D3B2D8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315-2EDA-4CF6-8EC4-1D524F1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19E-ACB0-451E-908E-2DA7F6FD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C0C-60A1-4080-9C98-1CEB9832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90B9-2818-4752-9EF8-892F844BC8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65240"/>
            <a:ext cx="89154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56:00Z</dcterms:modified>
  <cp:revision>40</cp:revision>
  <dc:subject/>
  <dc:title>Slide 1</dc:title>
</cp:coreProperties>
</file>