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96EA-C4E9-40FF-B058-8B95FBE0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7BE-0C7C-4719-A7C5-0BE9A4DD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B9B-246F-4D3F-9041-AEDE0CED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3064-24F5-4527-A4BC-D7D407FD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D77-30D3-4A6B-AFA5-0565607F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AB1-6DDE-43E7-BD57-00F8730F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051-457D-4C2F-8F9A-12AE6438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3DF-AFD1-42AB-A205-410CF9FD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6853-1A9F-41F6-85DF-E815D1FC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EA12-17CF-4D69-91EA-95DDAF82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D67-5DFC-4FB1-A015-FD4048C6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281-C55F-4E39-8ED8-07316723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522F-045E-41F7-9363-0769A6C152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91440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51:51Z</dcterms:modified>
  <cp:revision>39</cp:revision>
  <dc:subject/>
  <dc:title>Slide 1</dc:title>
</cp:coreProperties>
</file>