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8A1-F110-4230-8633-3F4AF482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2C7-874C-449F-84DD-986FCE0E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1F2-4130-410C-9E16-89489913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F62-B055-44B6-BE4D-550135F3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0FA-B066-405A-9D07-B20B608C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88F-676B-4482-B779-80066AC4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C8B-9BDA-4B27-9136-AAB19F59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E28-D6B7-4557-82AE-F4415D40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F2F-6A7E-4271-A25E-390FBF81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43C-4DCC-4E87-88D7-24A8AA9B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783-252C-43D8-8E0C-4D5DD69A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E1F-F6DE-4CE5-9BFE-39CE6B9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CF98-F340-452D-BFBA-57212223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3" descr="b1"/>
          <p:cNvPicPr/>
          <p:nvPr/>
        </p:nvPicPr>
        <p:blipFill>
          <a:blip r:embed="rId1"/>
          <a:stretch/>
        </p:blipFill>
        <p:spPr>
          <a:xfrm>
            <a:off x="0" y="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7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b3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IT-Alienware</dc:creator>
  <dc:description/>
  <dc:language>en-US</dc:language>
  <cp:lastModifiedBy>IT-Alienware</cp:lastModifiedBy>
  <dcterms:modified xsi:type="dcterms:W3CDTF">2020-02-18T02:17:35Z</dcterms:modified>
  <cp:revision>39</cp:revision>
  <dc:subject/>
  <dc:title>Slide 1</dc:title>
</cp:coreProperties>
</file>