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A0D-0CBF-439C-A0A3-18897B72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90E-D3E4-4A36-91A5-5173D34F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B01-982F-442D-BAF0-B63DD91C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2E7-AF2D-4A5D-BFC6-08FFB94A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D88-F862-40F7-8490-C64E2EB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084-2AD2-4ECF-B1D8-FD1196F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6E6-26E8-4346-BA38-5BECD37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5A5-7E42-4D42-A6F5-7E0DF5A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BC1-20FA-45F9-9DEA-1D192AFD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D05-10A6-499F-98AA-E5BD8210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330-0398-4DA9-9CBC-53A95C4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C8B-461D-4A97-9BF3-E2DF259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28F-6581-49FC-BA88-FCE20052D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57a copy.jpg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557b copy.jpg"/>
          <p:cNvPicPr/>
          <p:nvPr/>
        </p:nvPicPr>
        <p:blipFill>
          <a:blip r:embed="rId1"/>
          <a:stretch/>
        </p:blipFill>
        <p:spPr>
          <a:xfrm>
            <a:off x="10159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557c copy.jpg"/>
          <p:cNvPicPr/>
          <p:nvPr/>
        </p:nvPicPr>
        <p:blipFill>
          <a:blip r:embed="rId1"/>
          <a:stretch/>
        </p:blipFill>
        <p:spPr>
          <a:xfrm>
            <a:off x="824040" y="430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557d copy.jpg"/>
          <p:cNvPicPr/>
          <p:nvPr/>
        </p:nvPicPr>
        <p:blipFill>
          <a:blip r:embed="rId1"/>
          <a:stretch/>
        </p:blipFill>
        <p:spPr>
          <a:xfrm>
            <a:off x="920880" y="2858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5:35:40Z</dcterms:created>
  <dc:creator>celester</dc:creator>
  <dc:description/>
  <dc:language>en-US</dc:language>
  <cp:lastModifiedBy>Ing Ming Loh</cp:lastModifiedBy>
  <dcterms:modified xsi:type="dcterms:W3CDTF">2018-10-17T06:45:05Z</dcterms:modified>
  <cp:revision>1</cp:revision>
  <dc:subject/>
  <dc:title>PowerPoint Presentation</dc:title>
</cp:coreProperties>
</file>