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47F3-A315-493C-849C-C16ACF331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860B-A99B-4CF8-ACA5-10C7BACBA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2E22-1D9A-4C22-BA8A-9B13F788A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9DB1-FBB9-4C4B-AD43-A56A1D4F5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3D04-3042-4E69-B978-AE8253304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705B-FA1D-4059-80DC-EF81E73AE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2A4A-8455-437E-9BA3-FDCAB2335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DC87-3E3B-4754-A8B3-95991FA0C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5090-00CB-4046-B8EA-0EBA04C47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2FC2-2463-4C33-A95D-C3C89CE7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976D-3018-4B25-83B1-D4279229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B1D0-5A14-484A-A730-ECAF38B6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08240" y="6378120"/>
            <a:ext cx="29275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45684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8296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022AB-CDFF-410C-A034-451BCE5668FD}" type="slidenum">
              <a:rPr b="0" lang="de-DE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1-18T08:20:32Z</dcterms:created>
  <dc:creator>Online2PDF.com</dc:creator>
  <dc:description/>
  <dc:language>en-US</dc:language>
  <cp:lastModifiedBy>Online2PDF.com</cp:lastModifiedBy>
  <dcterms:modified xsi:type="dcterms:W3CDTF">2024-01-18T07:20:34Z</dcterms:modified>
  <cp:revision>1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24-01-18T00:00:00Z</vt:filetime>
  </property>
  <property fmtid="{D5CDD505-2E9C-101B-9397-08002B2CF9AE}" pid="3" name="LastSaved">
    <vt:filetime>2024-01-18T00:00:00Z</vt:filetime>
  </property>
</Properties>
</file>