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B28-A5C9-4991-922A-385D32DD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79C-4DFA-4F81-93B0-3EBD2D2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E92-92C7-41F9-A317-30A61E59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228-A986-418C-AF95-4E080B62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68-05A1-45C5-9A79-3E67CBE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178-3EAD-47E1-A3A5-66C06D2B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C4E-FFC5-409D-BF51-2A79DF6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503-ECC8-4A8F-BFE7-A738F7E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218-CBCA-4D2D-AC47-3388F5A5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352-0952-4852-93BC-35B4C11F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76C-7C8D-447B-93C1-C8C29657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95F-B2F6-475D-A8B4-3B1AE01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55E7-5A62-4EF1-BA3D-72778F5D5768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40Z</dcterms:created>
  <dc:creator>Online2PDF.com</dc:creator>
  <dc:description/>
  <dc:language>en-US</dc:language>
  <cp:lastModifiedBy>Online2PDF.com</cp:lastModifiedBy>
  <dcterms:modified xsi:type="dcterms:W3CDTF">2024-01-18T07:20:4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