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D954-18AA-40EF-91FB-C6977E8D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2F43-2CC8-4F81-B0A9-6A005DF6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2A34-4829-4FA9-BF38-8E9BD557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209E-BBEC-4FA8-9DB5-42DA9B22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2066-9593-4245-854D-334A581D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AEEF-1069-4040-BC04-6836DA52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10CD-3023-4CD7-93EE-48AB0EBD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9B46-04CC-4D82-A46C-D55EBD44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79EE-DADC-4A1F-9E81-0652B799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E4A5-A9B3-4700-81BD-32C1FAD4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A165-DEDE-4931-9210-CBCC65FB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B5B6-FE54-4B57-BE10-17A3DFFA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2E8F-F72C-4C3F-AF32-6F0D2A4695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1:50:22Z</dcterms:modified>
  <cp:revision>37</cp:revision>
  <dc:subject/>
  <dc:title>Slide 1</dc:title>
</cp:coreProperties>
</file>