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AF99-7B19-4758-93D9-B0C2AA42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E2B-CF89-44D3-8682-C0514CBF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9D5-0321-4AA4-B2ED-8AB858B13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F863-5A4B-4DC7-9418-3745EF9D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55E-3165-4A16-BF3B-83E87695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20A-D8FE-427F-9F18-97F39635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281-27E5-41B9-B1EC-F8BD53F2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B37-9F8A-4234-BCD2-961A83F79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039-8C27-43D0-9BDF-58D18D80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A00-5258-4BB5-BEB1-7366B7F5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92B-C591-4ACF-AEA8-70362D3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448-3DB2-4DD2-BD2E-B06D378A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1D2C7-78B8-44D5-A489-7BF3880C2F17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6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96840"/>
            <a:ext cx="91440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7T06:58:22Z</dcterms:created>
  <dc:creator>Ing Ming Loh</dc:creator>
  <dc:description/>
  <dc:language>en-US</dc:language>
  <cp:lastModifiedBy>Ing Ming Loh</cp:lastModifiedBy>
  <dcterms:modified xsi:type="dcterms:W3CDTF">2018-10-17T06:58:49Z</dcterms:modified>
  <cp:revision>1</cp:revision>
  <dc:subject/>
  <dc:title>PowerPoint Presentation</dc:title>
</cp:coreProperties>
</file>