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CFD-5963-45EC-8680-8AC13255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F32-745E-48C2-934B-E2EDB434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DE9-F2F6-4AD2-A9AD-DA78058D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B5D-C420-48E8-A9C9-CF77B6A6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905-5CD5-4C60-9245-2B3283B0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3F80-C375-4467-B1FA-68C0D1FF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E6E3-C33B-4B1E-BF72-9E2DB526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BC12-885C-4843-84C1-6F4F9595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00B5-7849-4414-8438-45939C25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E04C-722B-40A0-9ADB-B91D2FB3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B80-D0F7-4F7C-9B1C-40874C5B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456-E9B2-4B3C-BCCF-E176741E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69A0-FB0E-4824-A329-A41E4EF5E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ChaiYiing\Desktop\JPG pu song\pu song 562a.JPG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ChaiYiing\Desktop\JPG pu song\pu song 562b.jpg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5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ChaiYiing\Desktop\JPG pu song\pu song 562c.JPG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5:38:49Z</dcterms:created>
  <dc:creator>celester</dc:creator>
  <dc:description/>
  <dc:language>en-US</dc:language>
  <cp:lastModifiedBy>Ing Ming Loh</cp:lastModifiedBy>
  <dcterms:modified xsi:type="dcterms:W3CDTF">2018-10-17T07:00:35Z</dcterms:modified>
  <cp:revision>1</cp:revision>
  <dc:subject/>
  <dc:title>PowerPoint Presentation</dc:title>
</cp:coreProperties>
</file>