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342-091A-4CE5-957A-CDC8F3CC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A9B-AACF-409B-8C0A-46B2D7A4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18A-C4A1-4CA0-B79D-768BB920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876-0A66-4F8F-AD31-A9D5B951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E21-E201-4455-B976-17FD8083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482-9CDA-4B71-A82A-D9DCB368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AA6-3C6E-4C8B-B66B-71853ADF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1DF-F594-401D-A2AC-3124451C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4F2-9F2B-4C3D-82A6-93F356D4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D62-C71F-4AD6-8450-A977DEDC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67D-F2E8-4B3A-A87A-7ED8C3F2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9D5-687A-4FEE-B587-479CCE88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3B91-C3D7-4C69-805C-47745DC2BF74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3:21Z</dcterms:created>
  <dc:creator>Online2PDF.com</dc:creator>
  <dc:description/>
  <dc:language>en-US</dc:language>
  <cp:lastModifiedBy>Online2PDF.com</cp:lastModifiedBy>
  <dcterms:modified xsi:type="dcterms:W3CDTF">2024-01-18T07:23:24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