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04D-B2E7-4E1F-90F9-E6464BE3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453-42BA-4675-99F0-A015620D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4EA-9336-4A6A-B65F-C23E02BE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4F6-FC4A-445B-B987-8572F3F1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5F4-178A-4053-B7A6-10E78A8C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CBB-8556-4C5B-9610-263FCFE7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13F-6BCA-4CBF-981D-3173167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D9D-6C11-4FD3-9513-AB52CFC6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6D5-E7C3-40F5-8413-D38CD83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296-A6B3-4BAA-80AA-378BB001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E8E-9FDC-4288-B088-755D852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77C-12DF-4E4C-AB61-0384F1D9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D97C-FA15-4F86-8DA6-00FBACF467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324480"/>
            <a:chOff x="0" y="0"/>
            <a:chExt cx="9144000" cy="63244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7849080" y="4867200"/>
              <a:ext cx="1064520" cy="9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9:06Z</dcterms:modified>
  <cp:revision>36</cp:revision>
  <dc:subject/>
  <dc:title>Slide 1</dc:title>
</cp:coreProperties>
</file>