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C21-998F-499B-8096-23CBDD49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FDF8-53C2-4FA4-97D4-F336ACFC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0A2-76B9-48B7-8F88-D9C87A59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642-772B-4AF3-87FF-C772D9AF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EF4-3FB9-4E0A-A38D-082EC02D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E87-270A-48ED-A0B1-8C65DD47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3896-E66A-4132-A389-B349FCD6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0A1-69CB-4CF6-BF15-8AA00A0C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55B-E791-426B-96DA-566C4FFA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7BA3-D5FB-478E-AAEE-793AD8AB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1C6-82BE-43E9-9411-0A0E1989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3B65-FBE9-4798-9786-03645ECA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8608-0AC5-42A9-8934-356EC70B46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899136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899136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48:32Z</dcterms:modified>
  <cp:revision>35</cp:revision>
  <dc:subject/>
  <dc:title>Slide 1</dc:title>
</cp:coreProperties>
</file>