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A303-D69B-4788-ACDA-D63A4D8E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5A7-A1F5-40F7-9A6F-4ECE923F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D3E5-6F92-4041-BA02-9C48CF2CE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91F-CD08-4B95-A7EF-496F2B6A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F6A-EC0A-4BB3-8A08-2ED65F13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1DD-3382-4323-90FE-96FB079D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59A-284C-47DC-9E12-332030CA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495-3D5E-4A2D-A5B1-85CD652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BF0-5960-4011-BCF3-31A065A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725-6609-4BDB-8465-9889C60D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DE64-77C6-461B-BEFD-727D433F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9316-CE6B-4611-9610-E45E539A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F0C0-F892-42A2-A995-7BBB329A5E48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8953560" cy="6694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3:30Z</dcterms:created>
  <dc:creator>Online2PDF.com</dc:creator>
  <dc:description/>
  <dc:language>en-US</dc:language>
  <cp:lastModifiedBy>Online2PDF.com</cp:lastModifiedBy>
  <dcterms:modified xsi:type="dcterms:W3CDTF">2024-01-18T07:23:32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