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E8F-6325-4A4D-9E91-3E1E7499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F1A-ABE9-46C8-89E7-AB76C41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48C-E780-4B05-9665-45F37AD4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AF7-D907-46E3-8E0E-F75118E1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E4A-9BE9-4ACE-8EF8-4E218715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B26-EC59-45EC-BDD8-4535B873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5A6-1040-4A2C-A6DA-DAEA8CA7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DA1-69E9-44D1-8EA6-AEF429C2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230-0774-4100-AE01-2930F38A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AA4-6028-4F5B-AB23-BE8DC49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529-AB4F-4F63-A5D1-EF470EEC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30D-07EF-47D9-AA33-ACD7D69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D73-D1DF-4DA3-938D-792E9BE95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567a.JPG"/>
          <p:cNvPicPr/>
          <p:nvPr/>
        </p:nvPicPr>
        <p:blipFill>
          <a:blip r:embed="rId1"/>
          <a:stretch/>
        </p:blipFill>
        <p:spPr>
          <a:xfrm>
            <a:off x="45720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567b.JPG"/>
          <p:cNvPicPr/>
          <p:nvPr/>
        </p:nvPicPr>
        <p:blipFill>
          <a:blip r:embed="rId1"/>
          <a:stretch/>
        </p:blipFill>
        <p:spPr>
          <a:xfrm>
            <a:off x="380880" y="838080"/>
            <a:ext cx="861084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567c.JPG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haiYiing\Desktop\JPG pu song\pu song 567d.JPG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ChaiYiing\Desktop\JPG pu song\pu song 567e.JPG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ChaiYiing\Desktop\JPG pu song\pu song 567f.JPG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5:42:00Z</dcterms:created>
  <dc:creator>celester</dc:creator>
  <dc:description/>
  <dc:language>en-US</dc:language>
  <cp:lastModifiedBy>Ing Ming Loh</cp:lastModifiedBy>
  <dcterms:modified xsi:type="dcterms:W3CDTF">2018-10-17T07:15:04Z</dcterms:modified>
  <cp:revision>1</cp:revision>
  <dc:subject/>
  <dc:title>PowerPoint Presentation</dc:title>
</cp:coreProperties>
</file>