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347-74E0-4E6D-8545-5624E824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202-9120-4FC4-89D1-361AFBFA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573-3F20-483E-8FA8-75941D80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3C7-3426-4481-B11F-D472CAA9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CF2-FD85-472E-8648-8D1BCED8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85D-5EF0-44D4-9B19-43D9C76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53E-2822-40E4-8894-6514A6A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D3A-B12C-4F59-990D-FBB78F8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93B-ED61-4FE7-B232-27843BB0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185-1D92-44B1-B6A5-8C87DD8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CF00-D7DA-40E9-8A33-8304A77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016-CEBA-4011-A617-C562CC4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306-1A3D-4CB0-B147-7C3975BCFA74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35Z</dcterms:created>
  <dc:creator>Online2PDF.com</dc:creator>
  <dc:description/>
  <dc:language>en-US</dc:language>
  <cp:lastModifiedBy>Online2PDF.com</cp:lastModifiedBy>
  <dcterms:modified xsi:type="dcterms:W3CDTF">2024-01-18T07:23:3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