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388-1629-484E-9B9E-0905F030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0CE-27AF-4632-BBFC-C3A5D86D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3E9-A093-494C-A63D-8688C2BD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D9B-6883-4ECA-96AB-D39F5FCE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B95-987A-43F3-A50B-BD09F6E1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108-07CE-44BD-BC4B-A477FD2F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D0A-42DC-4FC1-AD57-2851FF60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B92-4A55-4488-8565-80EC956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A9C-D5F4-4F67-ADE0-C719803A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355-08C3-4F24-AEE5-CB0D2DFE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623-5409-429E-874B-CB758D00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706-4CD5-4C17-8B2C-56623259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CACD-9AEE-4069-A863-2A7611A44B03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3:41Z</dcterms:created>
  <dc:creator>Online2PDF.com</dc:creator>
  <dc:description/>
  <dc:language>en-US</dc:language>
  <cp:lastModifiedBy>Online2PDF.com</cp:lastModifiedBy>
  <dcterms:modified xsi:type="dcterms:W3CDTF">2024-01-18T07:23:43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